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F3C7-7559-4438-A62D-B32ECFB4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64C0-CFD8-46C1-B8C0-54235128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4762-915F-4FE3-B9FB-2A574CE4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811D-D716-4FFC-B3B2-2603045B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AE07-6A90-437D-A9E7-597D386E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299E-8673-4C45-8FD2-5412C21D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1B59-FE38-4C56-BD34-566AB7EA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BD39-962D-4033-82EC-DE0D501A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124F-148C-4289-B51B-E5C64943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9355-B701-4C54-B533-AA041BC7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06A8-98B8-4CC4-B56F-616B77F7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751-8FFD-4824-9041-18A43BAE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D9DD-717E-4352-AFA6-874BF7A0B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britannica.com/ebc/art-60421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hiller"/>
              </a:rPr>
              <a:t>Reproductive Clon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fornian FB"/>
              </a:rPr>
              <a:t>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fornian FB"/>
              </a:rPr>
              <a:t>Dolly</a:t>
            </a: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  <a:ea typeface="Kozuka Gothic Pro H"/>
              </a:rPr>
              <a:t>Varun and Elizab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76720" y="1676520"/>
            <a:ext cx="2819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fornian FB"/>
              </a:rPr>
              <a:t>Guinea pigs objections</a:t>
            </a: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 – humans are not guinea pigs, nobody has the right to carry out experiments o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fornian FB"/>
              </a:rPr>
              <a:t>Technological terror objections (10,000 Hitler objection)</a:t>
            </a: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 – clone soldiers, fear that’s been generated through science f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fornian FB"/>
              </a:rPr>
              <a:t>Identify of life objections</a:t>
            </a: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 – cloning people threatens personal identity, easier to get out of bed in the morning knowing they are u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fornian FB"/>
              </a:rPr>
              <a:t>Selfishness objections</a:t>
            </a: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 – many people believe there is no reason to clone children when there are so many waiting for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hiller"/>
              </a:rPr>
              <a:t>Technology Use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Somatic cell nuclear transfer (SCN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As the procedure currently cannot be automated, it must be performed under a microsc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2152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hiller"/>
              </a:rPr>
              <a:t>Potential Benefits To Societ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fornian FB"/>
              </a:rPr>
              <a:t>Agricultural Benefits</a:t>
            </a: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 – Cattle and other livestock that contain beneficial characteristics that will increase the health of livestock as well as consumer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fornian FB"/>
              </a:rPr>
              <a:t>Life-Saving Technology</a:t>
            </a: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 – Organs and tissues like hearts and livers could perhaps be cloned (tissue engineer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hiller"/>
              </a:rPr>
              <a:t>Interesting Fact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fornian FB"/>
              </a:rPr>
              <a:t>Jurassic Park</a:t>
            </a: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 was made to emphasize the risk involved in clo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Some scientists believe that clon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fornian FB"/>
              </a:rPr>
              <a:t>will never work for humans</a:t>
            </a: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 while others state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fornian FB"/>
              </a:rPr>
              <a:t>human cloning is easier</a:t>
            </a: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 to do that animal clo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91320" y="4800600"/>
            <a:ext cx="26668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iller"/>
              </a:rPr>
              <a:t>Bibliograph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on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" Online Art. Encyclopædia Britannica Online. 25  Feb.  2008  &lt;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ritannica.com/ebc/art-6042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Human Genome Project Information."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loning Fact She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29 08. 2006. Human Genome Project. 25 02. 2008 &lt;http://www.ornl.gov/sci/techresources/Human_Genome/elsi/cloning.shtml#risks&gt;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fe, Alonzo. "Against a Prohibition on Cloning."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 Reproductive Cloning Networ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26 Feb. 2008 &lt;http://www.reproductivecloning.net/Articles/fyfe.htm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omatic Cell Nuclear Transfer."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ikipedi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26 Feb. 2008 &lt;http://en.wikipedia.org/wiki/Therapeutic_cloning#SCNT_in_reproductive_cloning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hiller"/>
              </a:rPr>
              <a:t>What is Reproductive Cloning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Technology used to generate an animal that has the same DNA as another currently or previously existing an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Dolly the sheep was created by reproductive cloning techn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3076560" cy="2666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800600" y="6415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fornian FB"/>
              </a:rPr>
              <a:t>First dog clone (Afghan Hou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hiller"/>
              </a:rPr>
              <a:t>How does it work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Scientists use “</a:t>
            </a:r>
            <a:r>
              <a:rPr b="0" lang="en-US" sz="2400" spc="-1" strike="noStrike">
                <a:solidFill>
                  <a:srgbClr val="333399"/>
                </a:solidFill>
                <a:latin typeface="Californian FB"/>
              </a:rPr>
              <a:t>somatic cell nuclear transfer</a:t>
            </a: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” (SC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Transfer genetic material from the nucleus of a donor adult cell to an egg whose nucleus (so its genetic material) has been rem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Reconstructed egg containing the transferred DNA is treated with chemicals or electric current to </a:t>
            </a:r>
            <a:r>
              <a:rPr b="0" lang="en-US" sz="2400" spc="-1" strike="noStrike">
                <a:solidFill>
                  <a:srgbClr val="333399"/>
                </a:solidFill>
                <a:latin typeface="Californian FB"/>
              </a:rPr>
              <a:t>stimulate cell division</a:t>
            </a: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fornian FB"/>
              </a:rPr>
              <a:t>Once the cloned embryo reaches a suitable stage, it is transferred to the uterus of a female host where it continues to develop until bi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hiller"/>
              </a:rPr>
              <a:t>     </a:t>
            </a:r>
            <a:r>
              <a:rPr b="0" lang="en-US" sz="8000" spc="-1" strike="noStrike">
                <a:solidFill>
                  <a:srgbClr val="000000"/>
                </a:solidFill>
                <a:latin typeface="Chiller"/>
              </a:rPr>
              <a:t>The Clone!</a:t>
            </a:r>
            <a:r>
              <a:rPr b="0" lang="en-US" sz="6000" spc="-1" strike="noStrike">
                <a:solidFill>
                  <a:srgbClr val="000000"/>
                </a:solidFill>
                <a:latin typeface="Chiller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fornian FB"/>
              </a:rPr>
              <a:t>Dolly or any animal created using nuclear transfer technology is not truly an identical clone of the don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fornian FB"/>
              </a:rPr>
              <a:t>Only clone’s nuclear DNA is the sam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fornian FB"/>
              </a:rPr>
              <a:t>Some of the clone’s genetic material comes from the mitochondr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fornian FB"/>
              </a:rPr>
              <a:t>Mutations in the mitochondri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fornian FB"/>
              </a:rPr>
              <a:t>DNA are believed to play a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fornian FB"/>
              </a:rPr>
              <a:t>important role in the aging proc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781680" y="152280"/>
            <a:ext cx="1292400" cy="1447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324480" y="4114800"/>
            <a:ext cx="1670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hiller"/>
              </a:rPr>
              <a:t>Relevance to Societ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Can increase the population of endangered spe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Lots of controversy over the issue: it has risks and is highly inefficient. Over 90% of cloning attempts f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419720" y="4419720"/>
            <a:ext cx="3047760" cy="2031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267080" y="64008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fornian FB"/>
              </a:rPr>
              <a:t>Red panda – an endangered spe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hiller"/>
              </a:rPr>
              <a:t>Ethical Consideration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fornian FB"/>
              </a:rPr>
              <a:t>Defective child objections</a:t>
            </a: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 – clone child could be imperfect (suffering from defec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fornian FB"/>
              </a:rPr>
              <a:t>Medical safety</a:t>
            </a: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 – born with de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fornian FB"/>
              </a:rPr>
              <a:t>Religious objections</a:t>
            </a: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 – cloning is “playing God,” clone will have no “soul,” something less than fully hu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fornian FB"/>
              </a:rPr>
              <a:t>Slavery and spare parts objections</a:t>
            </a: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 – clones that are created will either be treated as a slave or her body parts will be chopped up and s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fornian FB"/>
              </a:rPr>
              <a:t>Objects of potential discrimination</a:t>
            </a:r>
            <a:r>
              <a:rPr b="0" lang="en-US" sz="3200" spc="-1" strike="noStrike">
                <a:solidFill>
                  <a:srgbClr val="000000"/>
                </a:solidFill>
                <a:latin typeface="Californian FB"/>
              </a:rPr>
              <a:t> – discrimination against cl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0:44:05Z</dcterms:created>
  <dc:creator>ICT Office</dc:creator>
  <dc:description/>
  <dc:language>en-US</dc:language>
  <cp:lastModifiedBy>ICT Office</cp:lastModifiedBy>
  <dcterms:modified xsi:type="dcterms:W3CDTF">2008-02-28T11:56:29Z</dcterms:modified>
  <cp:revision>3</cp:revision>
  <dc:subject/>
  <dc:title>Reproductive Cloning</dc:title>
</cp:coreProperties>
</file>